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C6407-3756-4101-83E4-430F060E01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9EBA2-67AD-4871-A281-46769DC8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75E25-F289-44FD-9D9B-87661190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5EB0F-AEFD-4835-9D17-25222930DA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03AF7-9C72-4FAD-A330-3B268195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B3754-C3EE-4B43-8215-977E4561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31279-E1B0-45A0-84E8-8D290F6C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E0F7F-C07A-488C-B589-E66389329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2C4FF-4E5E-40BE-98DE-4FCFC662A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48A2A-1AD0-4EEA-8B5A-556F89F9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51F7F-3D8E-4C25-92E8-11E679A5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032B2-DC8C-4FC9-AF98-905CCF7A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C32D-BF87-4929-B930-13F64A65677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280" y="2492280"/>
            <a:ext cx="51814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SimHei"/>
                <a:ea typeface="SimHei"/>
              </a:rPr>
              <a:t>第十节 心 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定义 心悸是一种对心脏搏动感到不适的自觉症状。心悸时心脏搏动可增强，心率可快、可慢，可有心律失常，也可完全正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病因 包括心脏搏动增强、心律失常、心脏神经症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表现 症状为患者自觉心搏或心慌。常见的伴随症状有：头晕、晕厥、呼吸困难、胸痛、交感神经功能亢进症状、恐惧。体征为体格检查部分患者可无阳性体征，部分有原发病体征，或有心率或心律的紊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 心悸的临床特点、心悸的身体反应、心悸的心理反应、原因或诱发因素、诊断、治疗与护理经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心悸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解释心悸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运用本节所学知识，能针对心悸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根据护理评估，能正确作出护理诊断，并列出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悸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alpitat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一种对心脏搏动感到不适的自觉症状。心悸时心脏搏动可增强，心率可快、可慢，可有心律失常，也可完全正常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悸的发生机制尚未明了。一般认为与心动过速、每搏心排出量大和心律失常有关，也与个体的敏感性、精神因素、注意力集中与否、心律紊乱存在的时间长短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99640" y="1557000"/>
            <a:ext cx="72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脏搏动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律失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脏神经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症状和伴随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自觉心搏或心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体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格检查部分患者可无阳性体征，部分有原发病体征，或有心率或心律的紊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悸的临床特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悸的身体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悸的心理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原因或诱发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诊断、治疗与护理经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活动无耐力 与心悸发作所致疲乏无力有关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焦虑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恐惧 与心悸发作对心脏功能的影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睡眠型态紊乱 与心悸发作所致不适有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7:54:53Z</dcterms:modified>
  <cp:revision>223</cp:revision>
  <dc:subject/>
  <dc:title>内科护理学</dc:title>
</cp:coreProperties>
</file>